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DE02-D97A-4E11-8016-B306AF38A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s use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finger 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fingers liq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fingers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44CF-5842-4FE0-A07B-7D42D23A80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BE46-09BC-42CA-8869-68D5E363F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DB1C-B11B-4190-8C92-D09717E9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5605-8A69-4DD1-AC8B-04DF53B3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D384-B832-46C0-9500-0606C5128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13EE-8D1D-47B2-8D44-92D2422A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B185-4556-4107-94C6-534E4AEA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41D0-5162-43A0-8E51-801DB850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B82E-10C2-4FC7-8665-095E1574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B932-34EE-4824-B39C-B59DA8B4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8E69-DA61-47CB-A424-97A879B9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F688-37B6-4C11-9603-29CF06B5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DD9F-C55A-4761-86AB-68AA4656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BEE3-04EB-4731-A158-F7A494D4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0FEF-7F0B-44BB-99B3-D541D2B1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4BA5-25F6-4268-9F54-AB6C4802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49E9-3039-4E1C-947A-F497C8A61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9B68-F9E8-4393-B97B-F5E337EEA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3181-C940-4936-A45D-55D76C0C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E929-A88E-4D10-85FB-955CF953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EBAF-0F3F-4A56-87DC-DF0AA72D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E5A6-096B-45EC-AF02-622E76DF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FCFA-625B-4F8B-9B9C-9C99497B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80F9-E66D-4B18-A4F3-CD1A2102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30E4-9692-43A9-824B-0C5D5724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CAB4-44DC-47C7-84D8-FB14DA26B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6DE5-786A-440E-AF9E-0EA340CB52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dentify state of matter of ite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C:\Users\Ave\AppData\Local\Microsoft\Windows\Temporary Internet Files\Content.IE5\UTNB92G0\MP900447617[1].jpg"/>
          <p:cNvPicPr/>
          <p:nvPr/>
        </p:nvPicPr>
        <p:blipFill>
          <a:blip r:embed="rId1"/>
          <a:stretch/>
        </p:blipFill>
        <p:spPr>
          <a:xfrm>
            <a:off x="1981080" y="1295280"/>
            <a:ext cx="4978440" cy="332100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9"/>
          <p:cNvGrpSpPr/>
          <p:nvPr/>
        </p:nvGrpSpPr>
        <p:grpSpPr>
          <a:xfrm>
            <a:off x="1112760" y="4495680"/>
            <a:ext cx="792360" cy="2426400"/>
            <a:chOff x="1112760" y="4495680"/>
            <a:chExt cx="792360" cy="2426400"/>
          </a:xfrm>
        </p:grpSpPr>
        <p:pic>
          <p:nvPicPr>
            <p:cNvPr id="222" name="Picture 3" descr="C:\Users\Ave\AppData\Local\Microsoft\Windows\Temporary Internet Files\Content.IE5\UTNB92G0\MC900297943[1].wmf"/>
            <p:cNvPicPr/>
            <p:nvPr/>
          </p:nvPicPr>
          <p:blipFill>
            <a:blip r:embed="rId2"/>
            <a:stretch/>
          </p:blipFill>
          <p:spPr>
            <a:xfrm>
              <a:off x="1112760" y="4495680"/>
              <a:ext cx="792360" cy="183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Box 6"/>
            <p:cNvSpPr/>
            <p:nvPr/>
          </p:nvSpPr>
          <p:spPr>
            <a:xfrm>
              <a:off x="1148400" y="65538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" name="Group 12"/>
          <p:cNvGrpSpPr/>
          <p:nvPr/>
        </p:nvGrpSpPr>
        <p:grpSpPr>
          <a:xfrm>
            <a:off x="7162920" y="4586400"/>
            <a:ext cx="761760" cy="2346840"/>
            <a:chOff x="7162920" y="4586400"/>
            <a:chExt cx="761760" cy="2346840"/>
          </a:xfrm>
        </p:grpSpPr>
        <p:pic>
          <p:nvPicPr>
            <p:cNvPr id="225" name="Picture 2" descr="C:\Users\Ave\AppData\Local\Microsoft\Windows\Temporary Internet Files\Content.IE5\U4IC10Y6\MC900297939[1].wmf"/>
            <p:cNvPicPr/>
            <p:nvPr/>
          </p:nvPicPr>
          <p:blipFill>
            <a:blip r:embed="rId3"/>
            <a:stretch/>
          </p:blipFill>
          <p:spPr>
            <a:xfrm>
              <a:off x="7162920" y="4586400"/>
              <a:ext cx="761760" cy="182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xtBox 8"/>
            <p:cNvSpPr/>
            <p:nvPr/>
          </p:nvSpPr>
          <p:spPr>
            <a:xfrm>
              <a:off x="7242840" y="656496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7" name="Picture 13" descr="C:\Users\Ave\AppData\Local\Microsoft\Windows\Temporary Internet Files\Content.IE5\U79NZCBF\MP900438719[1].jpg"/>
          <p:cNvPicPr/>
          <p:nvPr/>
        </p:nvPicPr>
        <p:blipFill>
          <a:blip r:embed="rId4"/>
          <a:srcRect l="0" t="23339" r="0" b="11669"/>
          <a:stretch/>
        </p:blipFill>
        <p:spPr>
          <a:xfrm>
            <a:off x="2286000" y="1447920"/>
            <a:ext cx="4572000" cy="2971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4" descr="C:\Users\Ave\AppData\Local\Microsoft\Windows\Temporary Internet Files\Content.IE5\PP4PXAT2\MP900401130[1].jpg"/>
          <p:cNvPicPr/>
          <p:nvPr/>
        </p:nvPicPr>
        <p:blipFill>
          <a:blip r:embed="rId5"/>
          <a:stretch/>
        </p:blipFill>
        <p:spPr>
          <a:xfrm>
            <a:off x="3324240" y="1868400"/>
            <a:ext cx="2495520" cy="3121200"/>
          </a:xfrm>
          <a:prstGeom prst="rect">
            <a:avLst/>
          </a:prstGeom>
          <a:ln w="0">
            <a:noFill/>
          </a:ln>
        </p:spPr>
      </p:pic>
      <p:grpSp>
        <p:nvGrpSpPr>
          <p:cNvPr id="229" name="Group 10"/>
          <p:cNvGrpSpPr/>
          <p:nvPr/>
        </p:nvGrpSpPr>
        <p:grpSpPr>
          <a:xfrm>
            <a:off x="4038480" y="4572000"/>
            <a:ext cx="794160" cy="2350080"/>
            <a:chOff x="4038480" y="4572000"/>
            <a:chExt cx="794160" cy="2350080"/>
          </a:xfrm>
        </p:grpSpPr>
        <p:pic>
          <p:nvPicPr>
            <p:cNvPr id="230" name="Picture 4" descr="C:\Users\Ave\AppData\Local\Microsoft\Windows\Temporary Internet Files\Content.IE5\U79NZCBF\MC900297941[1].wmf"/>
            <p:cNvPicPr/>
            <p:nvPr/>
          </p:nvPicPr>
          <p:blipFill>
            <a:blip r:embed="rId6"/>
            <a:stretch/>
          </p:blipFill>
          <p:spPr>
            <a:xfrm>
              <a:off x="4038480" y="4572000"/>
              <a:ext cx="794160" cy="181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Box 7"/>
            <p:cNvSpPr/>
            <p:nvPr/>
          </p:nvSpPr>
          <p:spPr>
            <a:xfrm>
              <a:off x="4044960" y="6553800"/>
              <a:ext cx="7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7T03:08:24Z</dcterms:created>
  <dc:creator>Candace</dc:creator>
  <dc:description/>
  <dc:language>en-US</dc:language>
  <cp:lastModifiedBy>ajack</cp:lastModifiedBy>
  <dcterms:modified xsi:type="dcterms:W3CDTF">2010-07-18T19:00:50Z</dcterms:modified>
  <cp:revision>52</cp:revision>
  <dc:subject/>
  <dc:title>Matter</dc:title>
</cp:coreProperties>
</file>